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2A274-15B1-4F3E-BAF1-40247C4EC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8D247-9264-437D-8CEB-A8E7762B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A6306-7DFE-4ADD-B42C-52985F6AE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8B29D-5C74-4FFD-A03C-359B5FA04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29F12-6BEF-45B6-AD5F-620BBF006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4AE9-10B2-46FC-9000-6D458BA36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06D7-CEB8-4DF9-BE21-90D6D376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96CA5-862A-4DE7-86FF-8D020384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9298A-9009-4237-8516-44FBEE669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BBBC-BEC1-44EE-A8A5-D0BA206B8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9B32-19AD-4E10-AA44-DB407A224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56BD-D404-4C7A-A034-239C9F507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1066-2F31-4066-8A0C-66E94F2FF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0000"/>
                </a:solidFill>
                <a:uFillTx/>
                <a:latin typeface="Baskerville Old Face"/>
              </a:rPr>
              <a:t>Breaking News: Crackdown on Illegal Immigrants </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480" y="1447560"/>
            <a:ext cx="7772400" cy="5181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ities have arrested around 350 people near the small border town of San Lucas. This part of a national crackdown on illegal immigrants coming into the country. Some were accused of crimes including homicide robbery, human smuggling, and narcotics trafficking. Many were looking for work in the agricultural fields near the town of San Lu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42">
                                            <p:txEl>
                                              <p:pRg st="0" end="0"/>
                                            </p:txEl>
                                          </p:spTgt>
                                        </p:tgtEl>
                                        <p:attrNameLst>
                                          <p:attrName>style.visibility</p:attrName>
                                        </p:attrNameLst>
                                      </p:cBhvr>
                                      <p:to>
                                        <p:strVal val="visible"/>
                                      </p:to>
                                    </p:set>
                                    <p:anim calcmode="discrete" valueType="clr">
                                      <p:cBhvr additive="repl">
                                        <p:cTn id="11"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 dur="80"/>
                                        <p:tgtEl>
                                          <p:spTgt spid="42">
                                            <p:txEl>
                                              <p:pRg st="0" end="0"/>
                                            </p:txEl>
                                          </p:spTgt>
                                        </p:tgtEl>
                                        <p:attrNameLst>
                                          <p:attrName>fillcolor</p:attrName>
                                        </p:attrNameLst>
                                      </p:cBhvr>
                                      <p:tavLst>
                                        <p:tav tm="0">
                                          <p:val>
                                            <p:strVal val="rgb(-103,51,51)"/>
                                          </p:val>
                                        </p:tav>
                                        <p:tav tm="50000">
                                          <p:val>
                                            <p:strVal val="rgb(-103,-103,0)"/>
                                          </p:val>
                                        </p:tav>
                                      </p:tavLst>
                                    </p:anim>
                                    <p:set>
                                      <p:cBhvr>
                                        <p:cTn id="13"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6:40:19Z</dcterms:created>
  <dc:creator>jobert</dc:creator>
  <dc:description/>
  <dc:language>en-US</dc:language>
  <cp:lastModifiedBy>jobert</cp:lastModifiedBy>
  <dcterms:modified xsi:type="dcterms:W3CDTF">2012-11-05T17:17:13Z</dcterms:modified>
  <cp:revision>4</cp:revision>
  <dc:subject/>
  <dc:title>Breaking News</dc:title>
</cp:coreProperties>
</file>